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CB35-3AF0-4536-8543-640100677A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explained disease as seeds bad seeds in the air known as mi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0s &amp;1860s breakthrough in the cause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ony Van Leeuwenhoek made one of the earliest micro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ed micro-organisms which he called animal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not as good as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purer glass produced = better lenses for micro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30 Joseph Lister develops a microscope which can magnify x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 Theory: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are the result of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heory: germ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-organisms cause decaying mat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ow had to prove his the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ompetition with French scientist Pouch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ed an experiment showing that microbes in the air caused dec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61 published his ‘germ theory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showed micro-organisms made wine and beer go b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ld germs cause dise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experim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ed that a micro-organism was causing disease in silk wo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steur never showed the link between bacteria and human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left to Robert Ko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create a flow chart with the ti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steps to discovering the causes of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slides to help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ach step you must explain how this helped to discover the cause of disea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not use more then three sentences per st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rmation can be found on p.128 - 129 of the text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336-920F-400C-A1DD-B12E3CE51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BAB3-B215-4DA8-8D67-7EBA5F32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562-32DC-40B9-AAB0-858ED444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FC2A-2970-4F6E-99B2-AC64BA6F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7AD-27AB-442A-9152-46F976D6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8EA2-5DE7-45AB-AEF9-77328A14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E789-A54F-4FD7-AEB3-A6224E49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125-6787-4B72-A528-D2CAFBED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1E02-08EC-4603-B389-566FD0C8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0033-0B7B-414A-A10A-2D88FF15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A2CB-BFC3-461E-9F12-1D06F191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F3A-9FCE-4240-AE0F-89C59CE0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BC61-F9A8-4273-9A32-A6A49D8C945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uis Pasteur &amp;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s about disease in19th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knew there was a link between dirt and disease, but could not explain the lin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eople explained disease as seeds bad seeds in the air known as miasm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850s &amp;1860s breakthrough in the cause of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1: Discovery of Micro-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thony Van Leeuwenhoek made one of the earliest microscop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scovered micro-organisms which he called animalcul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scopes not as good as tod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2: Improved micro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00s purer glass produced = better lenses for microscop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1830 Joseph Lister develops a microscope which can magnify x1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3: Louis Pasteur’s germ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ld Theory: spontaneous gener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are the result of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Theory: germ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cro-organisms cause decaying mat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steur showed you could kill the micro-organisms by applying heat - PASTEURISATIO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4: Germ theory vs spontaneous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teur now had to prove his theor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ompetition with French scientist Pouche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ducted an experiment showing that microbes in the air caused deca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861 published his ‘germ theory’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5: Linking micro-organisms to dise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showed micro-organisms made wine and beer go b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uld germs cause dis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ther experimen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ed that a micro-organism was causing disease in silk worm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6: Proving the link between bacteria and human disea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asteur never showed the link between bacteria and human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as left to Robert Ko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047760" cy="35622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T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85800" y="1752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914400" y="1600200"/>
            <a:ext cx="76201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need to create a flow chart with the tit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 steps to discovering the causes of disea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the slides to help you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each step you must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explain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how this helped to discover the cause of disease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You cannot use more then three sentences per ste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dditional information can be found on p.128 - 129 of the textboo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3T12:13:33Z</dcterms:created>
  <dc:creator>Ben Leach</dc:creator>
  <dc:description>Louis Pasteur &amp; Germ Theory</dc:description>
  <cp:keywords>Louis Pasteur &amp; Germ Theory</cp:keywords>
  <dc:language>en-US</dc:language>
  <cp:lastModifiedBy>LEGION</cp:lastModifiedBy>
  <dcterms:modified xsi:type="dcterms:W3CDTF">2017-07-03T11:24:11Z</dcterms:modified>
  <cp:revision>10</cp:revision>
  <dc:subject>Louis Pasteur &amp; Germ Theory</dc:subject>
  <dc:title>Louis Pasteur &amp; Germ Theory</dc:title>
</cp:coreProperties>
</file>